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393-825B-4090-89DF-C7BD9B12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51D-ACCD-4AD1-96F9-4E5ABECE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A06-ECC1-4583-A961-9BA5AC7E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998-7643-4F21-BF73-E5068B84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B44-4119-42B8-BEAC-DC9B7F4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F06-05C1-423F-8C19-1FE641CA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4D3-FE88-478C-ACAC-635877CF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06F-C36D-469C-9B18-E749F46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8B2-1F15-4606-8A3F-C95FAB41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4B6-DAF4-4663-9ACA-64DA2CD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F55-250B-42C0-A434-8364816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C82-E41A-4D91-98A8-4629B9B0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7E10-0499-418A-9C06-78BF1F510D00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Baseball in Japa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By Parker Davis+Dylan Kre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920" y="228240"/>
            <a:ext cx="175248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chir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800600" y="1371600"/>
            <a:ext cx="4038480" cy="49528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chiro came to play in the MLB in 2001 and was the rookie of the year, AL MVP, stolen base leader,was the hits leader,and was in the all-star game that year and has been to everyone since.In the 2007 all-star game he was the MVP.Has had 8 200 hit seasons,7 100 runs scored seasons,7 times AL singles leader,4 time AL hit leader, 5 time at bad leader,2 time silver slugger award winner,and an 8 time gold glove winn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516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81480" y="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adaharu Oh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81120" y="990360"/>
            <a:ext cx="3581640" cy="56386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h spent his whole career in Japan playing for the Yomiuri Giants and now is a manger. But during his career he had a batting average of .301, hit 868 (A world record),had 2,786 hits, and a 1.079 Career OPS a Japanese reco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81120" y="533520"/>
            <a:ext cx="4496040" cy="22096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Verdana"/>
              </a:rPr>
              <a:t>Daisuke Matsuzak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610480" cy="37339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Verdana"/>
              </a:rPr>
              <a:t>Daisuke was always a star pitcher. He made it to the NPB at the age of 18. In the 8 years he was there he had a gold glove every year, lead the Pacific league in strikeouts for 4 years,ERA in 2, and wins in 3.But during the off season of 2006 he made a deal with the Boston Red Sox of $51,111,111.11, over a 4 year deal with a $2,000,000 signing bonus. In his last 2 seasons he is 33-15 with 355 strike outs.He still has 2 years left on his contrac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idek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3352320"/>
            <a:ext cx="7772400" cy="31244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Hideki Godzilla” Matsui  Godzilla played for the Gaints in japan for 9 years.He was a 3 time MVP, won the japan series 3 times, made the all star game 9 times, and led the league in homeruns and rbi's 3 times. When he first got signed by the Yankees he had a parade in his honor before he left. He signed with the Yankees for $52,000,000 over 4 years. He did not miss a game in his first 3 seasons putting up a 518 game played streak.In Total while being with the Yankess he has made 60,000 000 million doll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Japanese Baseball Word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657600" cy="54104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nshu- P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a- H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nda- Sing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ruida- dou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anruida- Tri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onruida- Hom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ida- Sa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nt- Gih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ac- f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anto- Complete G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ampu- Shuto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npatsu- Star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anzen- Perf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anda- No hi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tokuten- No ru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ff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29:57Z</dcterms:created>
  <dc:creator>Yale SD#34</dc:creator>
  <dc:description/>
  <dc:language>en-US</dc:language>
  <cp:lastModifiedBy>rodfaulkner</cp:lastModifiedBy>
  <dcterms:modified xsi:type="dcterms:W3CDTF">2008-12-01T18:45:51Z</dcterms:modified>
  <cp:revision>4</cp:revision>
  <dc:subject/>
  <dc:title>Baseball in Japan</dc:title>
</cp:coreProperties>
</file>